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172360" y="6291360"/>
            <a:ext cx="895320" cy="56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enotypes at the 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accharomy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Genome Datab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78320" y="373392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ttp://www.yeastgenome.org/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6680" y="1828800"/>
            <a:ext cx="3975480" cy="1526040"/>
            <a:chOff x="2506680" y="1828800"/>
            <a:chExt cx="3975480" cy="1526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90560" y="1828800"/>
              <a:ext cx="3733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506680" y="3047760"/>
              <a:ext cx="397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an Attikum H, et al., (2004) </a:t>
              </a:r>
              <a:r>
                <a:rPr b="0" i="1" lang="en-US" sz="1400" spc="-1" strike="noStrike">
                  <a:solidFill>
                    <a:srgbClr val="ffff00"/>
                  </a:solidFill>
                  <a:latin typeface="Arial"/>
                </a:rPr>
                <a:t>Cell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119(6):777-88.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854640" y="19692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mple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. cerevisia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henotypes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354760" y="3733920"/>
            <a:ext cx="4073040" cy="2059560"/>
            <a:chOff x="2354760" y="3733920"/>
            <a:chExt cx="4073040" cy="20595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1385488" t="1819048" r="1096825" b="829574"/>
            <a:stretch/>
          </p:blipFill>
          <p:spPr>
            <a:xfrm>
              <a:off x="4495680" y="4114800"/>
              <a:ext cx="16552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rcRect l="346485" t="63910" r="2136054" b="2552882"/>
            <a:stretch/>
          </p:blipFill>
          <p:spPr>
            <a:xfrm>
              <a:off x="2666880" y="4114800"/>
              <a:ext cx="1657080" cy="13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354760" y="5486400"/>
              <a:ext cx="40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Martinez J, et al., (2006) MCB 26(24):9162-9176.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2160" y="373392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Wild-type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960" y="37339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acm1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04920" y="1600200"/>
            <a:ext cx="1904760" cy="3933360"/>
            <a:chOff x="304920" y="1600200"/>
            <a:chExt cx="1904760" cy="3933360"/>
          </a:xfrm>
        </p:grpSpPr>
        <p:pic>
          <p:nvPicPr>
            <p:cNvPr id="52" name="" descr=""/>
            <p:cNvPicPr/>
            <p:nvPr/>
          </p:nvPicPr>
          <p:blipFill>
            <a:blip r:embed="rId4"/>
            <a:srcRect l="0" t="0" r="0" b="22503"/>
            <a:stretch/>
          </p:blipFill>
          <p:spPr>
            <a:xfrm>
              <a:off x="304920" y="1600200"/>
              <a:ext cx="182880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04920" y="4800240"/>
              <a:ext cx="1904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ushcow JM, et al., (1999) Genetics 153(2):607-620.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5400000">
            <a:off x="6457680" y="260964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7920" y="2971800"/>
            <a:ext cx="3975480" cy="1526040"/>
            <a:chOff x="-7920" y="2971800"/>
            <a:chExt cx="3975480" cy="15260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75960" y="2971800"/>
              <a:ext cx="3733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7920" y="4190760"/>
              <a:ext cx="397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an Attikum H, et al., (2004) </a:t>
              </a:r>
              <a:r>
                <a:rPr b="0" i="1" lang="en-US" sz="1400" spc="-1" strike="noStrike">
                  <a:solidFill>
                    <a:srgbClr val="ffff00"/>
                  </a:solidFill>
                  <a:latin typeface="Arial"/>
                </a:rPr>
                <a:t>Cell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119(6):777-88.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83320" y="2819520"/>
            <a:ext cx="506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: INO8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eriment type: classical genetic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tant Type: nul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ualifier: decrease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servable: resistance to chemical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emical: methyl methanesulfonate (MMS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520" y="1522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. cerevisia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henotype annotation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05120"/>
          <a:ext cx="8153640" cy="3211560"/>
        </p:xfrm>
        <a:graphic>
          <a:graphicData uri="http://schemas.openxmlformats.org/drawingml/2006/table">
            <a:tbl>
              <a:tblPr/>
              <a:tblGrid>
                <a:gridCol w="1524240"/>
                <a:gridCol w="3322440"/>
                <a:gridCol w="1770120"/>
                <a:gridCol w="1536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ature Typ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periment Typ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nique loci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annotation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 number of annotation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RF (5784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lassical genetic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4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2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etitive growt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4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6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ematic null mutation se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43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08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NA (418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lassical genetic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s (731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lassical genetic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ematic null mutation se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4:26:54Z</dcterms:created>
  <dc:creator>Eurie Hong</dc:creator>
  <dc:description/>
  <dc:language>en-US</dc:language>
  <cp:lastModifiedBy>Eurie Hong</cp:lastModifiedBy>
  <dcterms:modified xsi:type="dcterms:W3CDTF">2006-12-01T22:18:39Z</dcterms:modified>
  <cp:revision>13</cp:revision>
  <dc:subject/>
  <dc:title>PowerPoint Presentation</dc:title>
</cp:coreProperties>
</file>